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media/wind.wav" ContentType="audio/x-wav"/>
  <Override PartName="/ppt/media/click.wav" ContentType="audio/x-wav"/>
  <Override PartName="/ppt/media/applause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8E6-5E86-409D-8AC6-0C3646FA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F73-C431-47A3-9201-4A35C4D9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AD5-18E6-48FE-BAC2-AA31D592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15C-BFF6-447A-BFAB-B84BCBFC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7C6-DA0D-4FDC-8218-5C6848FE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AD0-23C5-4F1C-9A3F-1240328B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F6C-E93D-4F49-8BF0-5141B908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750-3234-4998-9F2B-021ABA0F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C32-F6EE-4C0A-BBF8-05DE747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BD2-F79F-4E29-8B8A-C879425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F5F-9FE3-4C68-81B5-2928A18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283-6895-4A1E-A5BE-EACC0A5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E23B-0B84-4BC2-87F8-5D6FFB12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公    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382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给楚国制造云梯这种器械，制成了，将要用它来攻打宋国。墨子先生听到这件事，从鲁国出发，走了十天十夜到达郢，去见公输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先生有什么见教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北方有侮辱我的人，希望借助您去杀了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不高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请允许我奉送给您十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我善良坚持道义，从来不杀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起身，拜了两拜，说：“请允许我解说这件事。我在北方听说您造了云梯，将要用来攻打宋国。宋国有什么罪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国在土地上有剩余但在民众上不足，损失不足的而争夺有余的，不可以称为明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宋国没有罪而要攻打它，不可以称为仁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道这道理却不向楚王据理力争，不可以称为尽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力争了却没有结果，不能认为这是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您守义不杀一人却要杀众多的人，不能算是明白事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被说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但是为什么不停止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不可以，我已经向楚王说这件事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为什么不向楚王引见我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好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拜见楚王，说：“现在这里有个人，舍弃自己装饰华美的车，邻居有破车却想要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舍弃自己华丽的衣服，邻居有粗布短衣却想去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舍弃好饭好菜，邻居有不好的饭菜却想去偷。这是什么样的人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王说：“一定是有偷窃的毛病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楚国的土地方圆五千里，宋国的土地方圆五百里。这好像装饰华美的车和破车相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国有云梦泽，犀牛麋鹿到处都是，长江汉水里的鱼、鳖、鼋、鼍多得天下无比，宋国就像人们所说是连野鸡兔子鲋鱼都没有的地方。这好像好饭好菜和不好的饭菜相比。楚国有松树、梓树、黄楩木、楠木、樟树，宋国没有多余的木材。这好像华丽的衣服和粗布短衣相比。我认为大王所派攻宋的官吏攻打宋国，是和这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王说：“好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虽然如此，公输盘给我制造云梯，我一定要打败宋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是召见公输盘。墨子先生解下衣带当作城，把木片当作器械。公输盘多次用了攻城的巧妙战术，墨子先生多次抵挡住他。公输盘的攻城器械用完了，墨子先生的守卫方法还有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理屈了，但说：“我知道用来对付你的方法了，我不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也说：“我知道你用来对付我的方法，我也不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楚王问他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墨子先生说：“公输盘的意思不过想要杀死我。杀了我，宋国不能守了，于是就可以攻下。但是我的弟子禽滑厘等三百人，已经拿着我守卫的器械，在宋国城墙上等待楚国入侵了。即使杀了我，也不能杀尽宋国的抵抗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楚王说：“好吧。我不攻打宋国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通假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2670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不说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九距之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之守圉有余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诎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743200" y="1828800"/>
            <a:ext cx="43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悦”，高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97180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拒”，阻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290480" y="4038480"/>
            <a:ext cx="23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御”，抵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766960" y="5181480"/>
            <a:ext cx="24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屈”，理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wind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5410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一词多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                                    胡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于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         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公输盘为我为云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臣之弟子禽滑厘等三百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可谓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与此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类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2280" y="7621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5257800" y="762120"/>
            <a:ext cx="287280" cy="64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0" y="3213000"/>
            <a:ext cx="228600" cy="97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320 h 978120"/>
              <a:gd name="textAreaBottom" fmla="*/ 96480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4"/>
                  <a:pt x="10800" y="948"/>
                </a:cubicBezTo>
                <a:lnTo>
                  <a:pt x="10800" y="9852"/>
                </a:lnTo>
                <a:cubicBezTo>
                  <a:pt x="10800" y="10326"/>
                  <a:pt x="5400" y="10800"/>
                  <a:pt x="0" y="10800"/>
                </a:cubicBezTo>
                <a:cubicBezTo>
                  <a:pt x="5400" y="10800"/>
                  <a:pt x="10800" y="11274"/>
                  <a:pt x="10800" y="11748"/>
                </a:cubicBezTo>
                <a:lnTo>
                  <a:pt x="10800" y="20652"/>
                </a:lnTo>
                <a:cubicBezTo>
                  <a:pt x="10800" y="211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4365720"/>
            <a:ext cx="162000" cy="1800000"/>
          </a:xfrm>
          <a:custGeom>
            <a:avLst/>
            <a:gdLst>
              <a:gd name="textAreaLeft" fmla="*/ 103680 w 162000"/>
              <a:gd name="textAreaRight" fmla="*/ 162360 w 162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51460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“悦”高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828800" y="1295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077320" y="12193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拜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391520" y="6094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引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257800" y="25909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209680" y="5105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类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362320" y="40384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事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55627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applause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之”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楚造云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宋何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臣以王吏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宋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吾知子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以距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吾既已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58128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666880" y="20574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代词，指代造云梯攻宋这件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2895480" y="25146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宾语前置的标志，结构助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886200" y="3048120"/>
            <a:ext cx="6443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于主谓之间，取消句子独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435200" y="350532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”，结构助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129200" y="39625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代词，代这件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楚造云梯之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窃疾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此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解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江汉之鱼鳖鼋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下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为云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翻译下列句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1880" y="2131560"/>
            <a:ext cx="42595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夫子何命焉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宋何罪之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胡不已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   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胡不见我于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此为何若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743280" y="1700280"/>
            <a:ext cx="54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先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见教呢？   译  ：宋国有什么罪过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为什么不停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攻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何不向楚王引见我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这是什么样的人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欣赏品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540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、巧用类比，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、以于之矛攻子之盾。公输盘的“义”，楚王的“窃疾”均成了墨子制敌的法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1700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墨子的劝说技巧表现在哪些方面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墨子"/>
          <p:cNvPicPr/>
          <p:nvPr/>
        </p:nvPicPr>
        <p:blipFill>
          <a:blip r:embed="rId1"/>
          <a:stretch/>
        </p:blipFill>
        <p:spPr>
          <a:xfrm>
            <a:off x="4140360" y="1197000"/>
            <a:ext cx="470844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2050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物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81080" y="1197000"/>
            <a:ext cx="421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墨子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6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76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翟，鲁人，一说宋人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战国初期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思想家，政治家，教育家，先秦堵子散文代表作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曾为宋国大夫。早年接受儒家教育，后聚徒讲学，创立与儒家相对立的墨家学派。主张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兼爱”“非攻“尚贤”“节用”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反映了小生产者反对兼并战争，要求改善经济地位和社会地位的愿望，他的认识观点是唯物的。但他一方面批判唯心的宿命论，一方面又提出同样是唯心的“天志”说，认为天有意志，并且相信鬼神。墨于的学说在当时影响很大，与儒家并称为“显学”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wind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：机智多谋、无所畏惧、镇定自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输盘：顽固、阴险、狡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楚王：虚荣、愚蠢、狡猾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619280" y="69228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拓展延伸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与公输盘，楚王的这场斗争给予我们什么样的启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联系实际，谈谈你的看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场斗争表明，面对大国的不义之战，要敢于斗争。一方面要从道义上揭露其不义，使他们在舆论上威风扫地，另三方面，要从实力上作好充分准备，使他们的侵略野心无法得逞。这个道理，不仅被无数的历史事实证明；而且在今天也不无借鉴意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    国弱被人欺，落后就要挨打。在强权肆虐横行的国际环境下；我们只有壮大实力，才会永远立于不败之地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课堂小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墨子止楚攻宋的故事，生动地表现了墨子为实现自己的“非攻”主张所进行的艰苦实践和顽强斗争精神，同时也暴露了公输盘与楚王钓阱俭、狡诈，从而说明了只有把道义和实力结合起来，才能迫使侵略者收敛野心。文章情节波澜起伏，人物形象鲜明，说理充分，语言生动，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代表作。希望同学们课下阅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非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全篇，全面了解墨子的反侵略主张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voltage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先秦墨家著作，现存五十三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其中有墨子自作的，有弟子所记的墨子讲学辞和语录，其中也有后期墨家的作品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我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论辩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散文的源头，运用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比喻、类比、举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推论的论辩方法进行论政，逻辑严密，说理清楚。语言质朴无华，多用口语，在先秦堵子散文中占有重要的地位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   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输，名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也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“般”或“班”又称鲁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山东人，是我国古代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传说中的能工巧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现在，鲁班被人们尊称为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建筑业的鼻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其实这远远不够．鲁班不光在建筑业，而且在其他领域也颇有建树。他发明了飞鸢，是人类征服太空的第一人，他发明了云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武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钩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现在还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及其他攻城武器，是一位伟大的军事科学家，在机械方面，很早被人称为“机械圣人”，此外还有许多民用、工艺等方面的成就。鲁班对人类的贡献可以说是前无古人，后无来者，是我国当之无愧的科技发明之父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76360" y="83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公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疏通文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36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 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) 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犀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褊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  )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      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于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禽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476360" y="17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197880" y="17733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003640" y="1773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77080" y="1700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ī 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619280" y="2421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419640" y="2349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292720" y="2349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020000" y="2421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979640" y="299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án n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435640" y="2997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050920" y="3573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410080" y="3581280"/>
            <a:ext cx="8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843280" y="4149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651640" y="4149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7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7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7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7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7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2289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楚造云梯之械，成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宋。子墨子闻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于齐，行十日十夜而至于郢，见公输盘。公输盘曰：“夫子何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焉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”子墨子曰：“北方有侮臣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借子杀之。”公输盘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子墨子曰：“请献十金。”公输盘曰：“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义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杀人。”子墨子起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拜曰：“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。吾从北方，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梯，将以攻宋。宋何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？荆国有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地，而不足于民。杀所不足，而争所有余，不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；宋无罪而攻之，不可谓仁。知而不争，不可谓忠。争而不得，不可谓强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杀少而杀众，不可谓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公输盘服。子墨子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乎？”公输盘曰：“不可，吾既已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矣。”子墨子曰：“胡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？”公输盘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见王，曰：“今有人于此，舍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邻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敝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而欲窃之；舍其锦绣，邻有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而欲窃之；舍其粱肉，邻有穅糟，而欲窃之。此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何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？”王曰：“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矣。”子墨子曰：“荆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地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千里，宋之地方五百里，”此犹文轩之与敝舆也；荆有云梦，犀兕麋鹿满之，江汉之鱼鳖鼋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下富，宋所谓无雉兔狐狸者也，此犹粱肉之与糠糟也；荆有长松、文梓、楩、枬、豫章，宋无长木，此犹锦绣之与短褐也。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宋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此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王曰：“善哉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虽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为云梯，必取宋。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于是见公输盘，子墨子解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城，以牒为械，公输盘九设攻城之机变，子墨子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之。公输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攻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子墨子之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余。公输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而曰：“吾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距子矣，吾不言。”子墨子亦曰：“吾知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所以距我，吾不言。”楚王问其故，子墨子曰：“公输子之意，不过欲杀臣。杀臣，宋莫能守，乃可攻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臣之弟子禽滑厘等三百人，已持臣守圉之器在宋城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待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矣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杀臣，不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也。”楚王曰：“善哉！吾请无攻宋矣。”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0:14:29Z</dcterms:created>
  <dc:creator>Administrator</dc:creator>
  <dc:description/>
  <dc:language>en-US</dc:language>
  <cp:lastModifiedBy>User</cp:lastModifiedBy>
  <dcterms:modified xsi:type="dcterms:W3CDTF">2017-05-08T06:55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